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D78B-1B3A-41EA-9421-51F5CDB3A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15E6-8682-471F-9F58-8EC11E15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EADB-7979-4FCC-9746-A8391F35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8E1B-5F72-4AEF-A62D-C2B5DBE8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E2ED-002C-4099-BCC1-DA66EEB50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CD1D-285F-4A66-A2B3-4ACBAA3A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4D45-EF6B-4892-B857-E083F6DC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1234-D67C-45A8-92D7-C13C003A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6018-C316-4532-916A-EAE0536D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6D7E-80BA-4258-982C-2AD819D2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A69C-0F21-4EF8-B37B-6857EFB5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D3ED-1A2B-4CB6-9CF8-B71A9AB8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C566-A5C9-47F5-BAC8-4210295C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589F-94ED-474F-92BF-28CCB6DF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ADF7-BBBB-4F88-B533-90E7C5FD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962E-7814-43A3-BBF9-A9BA8C0A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7D96-6D0C-4254-B09D-1DB63688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EEEC-80A1-4BD8-8372-451B0361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086E-8A1E-4278-BD38-B5987BBF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FC8A-2AD7-4EC6-9E3C-A9E047AF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1337-ACA5-4AE7-8EE7-3596AD71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D4AD-A579-4E69-B415-9EFD8B22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3E0F-C24F-4C34-8634-2CD33C4D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0CF1-9655-4266-BCF9-133D5355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A58D-763F-4669-AE23-DBE378F1AC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D9AF-B9E2-42F8-8C9B-0F03A8C21F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99480" cy="7273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04920" y="380880"/>
            <a:ext cx="3581280" cy="39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Britannic Bold"/>
              </a:rPr>
              <a:t>AL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yotrophic Lateral Scler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603840" y="3429000"/>
            <a:ext cx="2540160" cy="3035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553080" y="762120"/>
            <a:ext cx="2895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 Bold"/>
              </a:rPr>
              <a:t>Lou Gehrig’s Dise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43800" y="2590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80880" y="380880"/>
            <a:ext cx="3353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What happens to people with ALS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4724280"/>
            <a:ext cx="304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Before the details….Let’s see a real life examp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159600" y="0"/>
            <a:ext cx="2984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80880" y="22860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What happens to people with ALS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Macintosh HD:Users:mitch50154:Downloads:WFMY News 2 - Teacher Battles Lou Gehrigs Disease.mov" descr=""/>
          <p:cNvPicPr/>
          <p:nvPr/>
        </p:nvPicPr>
        <p:blipFill>
          <a:blip r:embed="rId2"/>
          <a:stretch/>
        </p:blipFill>
        <p:spPr>
          <a:xfrm>
            <a:off x="2035080" y="1522440"/>
            <a:ext cx="50817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380880"/>
            <a:ext cx="2209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What happened to the guy in the vide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743200" y="304920"/>
            <a:ext cx="6400800" cy="4560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819520" y="5334120"/>
            <a:ext cx="6019560" cy="23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rbe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 Bold"/>
              </a:rPr>
              <a:t>Motor Neurons Dec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rbe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 Bold"/>
              </a:rPr>
              <a:t>This causes muscle to become weak and eventually d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rbe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019920" y="1980720"/>
            <a:ext cx="114300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391520" y="3581280"/>
            <a:ext cx="38088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02:37:08Z</dcterms:created>
  <dc:creator>Mitchell Singsheim</dc:creator>
  <dc:description/>
  <dc:language>en-US</dc:language>
  <cp:lastModifiedBy>Mitchell Singsheim</cp:lastModifiedBy>
  <dcterms:modified xsi:type="dcterms:W3CDTF">2011-05-12T03:31:54Z</dcterms:modified>
  <cp:revision>3</cp:revision>
  <dc:subject/>
  <dc:title>PowerPoint Presentation</dc:title>
</cp:coreProperties>
</file>